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DDA-5A36-4F13-B8A5-8E633B82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81F-9E61-4E8D-9CF5-9D0E4A2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3758B-F4F8-4650-B5AA-E7235633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D0328-DF69-4B16-B87F-7B7E3EBC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3FD21-7862-4B98-BC46-5CD94D39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CB272-C103-4502-A0BA-A553432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C6567-0B14-494F-8B2C-1EC9D35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5B3D1-378A-41D4-8330-990132E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10358-FDB4-4862-BE6A-B8DBCE86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B276-DB10-4C36-AE33-3F43FA45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D3E4D-67DF-4FF3-997F-4C27B2C5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47A22-FD0B-4752-9FD4-04D2E497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3E2-1490-4E9B-86BB-55A99B2B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7E924-7AE2-4BCC-BFF3-0DAADEB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6B069-5A0C-4971-A7D8-792FD41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0ACAB-D682-4FAC-9061-2C0BAFD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1CF73-C8F7-4554-8ABF-7FF706D2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6B101-1356-4E33-B6DF-092A3755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6AF29-F1B3-457B-BD48-1102967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F411E-99A5-4433-AA4B-7A3AD9B0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01F3-D447-4714-974A-EC5D776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6D355-A58D-4D94-AD69-DC4F0DA1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688B3-B666-4F60-B541-58574E4B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A12-CDA7-4190-97DF-1E1BF19F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C24D9-18FA-46D7-85DB-EA1C4C7C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07C9E-39F5-4036-B591-51B1EA9F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C5A04-C2BE-45DA-ADF0-A8C058AE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EA9E-28EB-4BAC-B90E-CF9CD34D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F5D7C-2C24-49D2-990D-C4D269DD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E3CC-9682-4E56-AB23-3B5E35E4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E44C-0484-4A1F-9AC6-BD1F569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A72BC-89D0-41F4-8A7D-A4ECF0B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A6969-6D93-4ECC-899A-D984626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A912D-7096-4CA0-A782-476C104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9076-6DE9-4F10-A183-D67DA3EA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C64F6-ADB3-46A2-85A2-8573504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405B3-AFC7-451E-A6F1-065D8083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7762D-77D3-4108-B0AB-00F7D692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54A1F-A23C-49F6-8DBF-6EB40E84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07EF4-6C68-4D95-838F-51200F6D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5B8AE-E077-47C1-B866-9D229B3E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AC558-DFDC-4921-B394-B9EB3F1F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7A45-F69A-4CF7-B545-C589471D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4D3A3-70BE-4104-A235-CDFBBCC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A1CAA-5445-4AD5-BAAB-9CF589D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2E2-B225-41A7-BC60-123FCA81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425C5-13D2-4975-9021-20E0B80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B3C6C-D238-4EB6-A9FF-350BC1A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5F07A-B16C-4283-A0F6-855999E3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F2D63-64D2-4A21-85E3-9BD60B7B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F2E88-447A-4107-95E8-D0DD0AE1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0762F-60B4-421E-B2E8-D634D392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113E2-070B-4B31-B6F7-6DF572E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BA84B-A246-47C2-AEC3-5BE9738C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C046F-EFE8-4BE7-A4D6-B74C3DF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7DDB2-B74C-4FE8-A7ED-413D76C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5932-FCD0-4265-AB6A-6C634F5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118EF-EB9E-498E-B9FB-00A8F38F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A52FF-9CC0-4A7C-A652-BE421ADC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E20E2-5F9F-4190-86B1-EB63563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9B20C-A404-4424-8A12-3ADF60F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A55AA-ECBA-4918-B6DC-0E34E3C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DA635-750C-4A52-8731-DF0CD27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3B934-0776-4BC0-BF5C-ED2E701F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62E69-37DC-4D37-8A39-E3ECF17D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A226C-F104-425A-A3F5-5249C82C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5378F-961E-46AC-98FA-C084DD99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45C6-F301-4B42-A883-EA6370C4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75931-D065-4FFA-BDF4-48F9D53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55BC4-225F-4149-8DEA-F2F3838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151BF-AC5E-4F81-BCE7-2EDA41F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0F213-91B3-4941-872D-94C3559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D5D80-1B8C-49B0-8481-27DAD88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99182-D481-408F-84FA-CC83809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71F9A-5A83-4C7D-BAA5-9843458D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6C11A-8859-48C9-8323-F08A9988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074AA-6E8F-4CBD-9815-E58AB098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0F6A1-BFC7-47F7-9F9F-3DD4786E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0F06-6004-4EE2-A41B-88F73C50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BF6FB-C269-4A80-9CC5-E62326A3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67E52-B3D2-495A-8D38-6827A7EA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C1DCC-CD20-4200-A53E-EF17FA02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35E56-4164-4840-920F-851E9C6E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F4F32-3505-42B5-89E3-8E3FB35C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43263-DAEB-4B8A-A91A-077E647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AA2F2-9B76-439A-BD6D-F996C5C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A3557-720A-4785-9863-8E15BF6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67441-B585-456B-A47B-F54F8293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DB87B-B830-494C-BDA2-15BD7DD0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E011-BA5E-4740-A0F3-555B15A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C9A4F-5F6E-4878-9E24-241FA537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9CBEA-AAF0-485C-9BC7-BA115262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B1743-857C-4C93-8C61-8ECBCB1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8EE90-74BA-430E-857A-AC1CE0FA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BE231-C0B5-47FD-91DF-18AE3E5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72938-A2DF-4B66-A437-7E7A09D7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C33F1-D13D-442D-ACC6-C4800E24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082FB-0052-4D35-8D70-4735911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9207B-DA2E-4BEC-AE0E-994DE8E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E7D77-2D42-4149-9648-3CE2FA8B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7536-DB96-4D30-AE4D-D3D3F82D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6A127-0979-4202-A571-3347AF58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27F9C-04AB-47A5-9A2C-104BF1A9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6CFA6-0AEC-4A03-9ADB-D2326AF4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4535E-8D86-4B3C-8477-170F9729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EC67B-FA3E-44B6-8F73-8956EDB4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515A3-475F-4DF3-93E3-C527D1D3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B1651-5C0D-419E-A94E-52280EC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47C79-BA87-4117-9822-1FB1F670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BC74F-372E-41FE-A17F-1094ED41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61DAF-1DA0-40B6-99F2-89C20E6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1A3-AD6E-4777-A956-4C990C8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4C4F-81EA-46EC-82C7-707C74D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AD10A-B19F-4E8A-9D48-6A9AA4E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C39D1-BFAC-47E6-AB4F-CD50651E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DC1FF-6C57-47A8-AAE7-16E125ED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FAF5C-37D2-41D3-99CA-1AEAF34A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C8DA8-CB48-49AE-AF97-F854D0F4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0FEE8E-6C20-42AA-8D1D-3132AD8B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74615-0357-4B45-BFE6-BDFA762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EA4536-8370-4828-81CD-99BBC93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6F62B-48EF-4DF7-8151-BD7C443C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0D895-720D-476E-A9D0-18981723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988-3435-4612-8538-A11A97FE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BD70B-893D-4790-A207-2DF0665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B17CB-4A4A-459B-9B4F-AC9DEAFA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4188E-5E5A-404A-BF7F-1DCABC2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02EF1-6BB4-4903-93BA-23A371B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A273F-E115-4021-BB74-C1A671C3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9AFFD-0550-41DE-A2AB-44E080B4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35C97-0A10-4D05-90DA-EDDCF50E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393E0C-A333-4E14-9569-049AE6D2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0BD25-0AE4-4551-B5C8-0A94AE1D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28958-BACB-4E10-8923-D4ADA407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322D-65B9-42FC-8553-6D7560A5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3FD8D-EB4D-4A3B-94D7-68391D73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3005F-C430-4993-BDBF-C6DCDDFE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857F9-9FDB-4EC7-9E75-5FD4167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6336B-D72E-488A-B000-A89A3FDC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3514A-8C14-4CB0-B1EC-8977E33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1FB4B-2D77-4EEE-83A2-9DAAB93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D20AC-8DC5-40BE-8E16-18DC05B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23371-1387-423D-B76B-D0CF6BEC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86E56F-1957-4D06-9DA9-A0B15740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8E819-0B35-4B51-96BC-6D4C9348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E814-5361-4785-B37A-5ADA19F4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3054E-7E21-4480-ACD0-3750939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885E0-5CF1-454E-B966-CBA5DBE6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C46DF-F53C-4D70-B5C2-A588220E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B749B-CA2D-4F33-B219-3CE5FFC1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AA453-D35A-4903-B043-5470702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30FE4-3154-471A-ADF7-C139869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01B18-BEDA-442D-8342-A2B9756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06D9F4-A280-4D83-A86E-D57FA34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C56BE-0048-4691-839D-090F44E7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D7581-EB1C-4DC4-A46B-133A31C8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88C3-093A-4059-8CDB-F017736F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25FAA-B63D-495A-80A1-29AB6D20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A6E18-F5DA-4A81-9417-687FA06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3107B-E0AC-4746-91B3-C57F250E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1B9264-2443-44AD-8BD5-C6CDA710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06EB9-0B49-4AD9-9BDE-7A62B9A5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D8430F-73A9-4082-ABA7-4D8A915E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FA418-5607-4C71-B1A6-261B85E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C663E-AB8E-45DA-8EA6-DE949C5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24B14-E20F-40F6-A677-3369394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800E9-91D1-4B89-9BDC-0F2D296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2721-A2A5-4FFA-9E8E-34920CA3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4FFFF0-06E2-4D5E-9971-65131345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79AE5-7C70-4550-9C7B-37AB57C6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FCEDF2-4D64-4D02-BE8B-EFA1AF01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649D-B751-4B8F-B0C0-639F5495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DE69-4A5D-4840-ABD6-E248BEAD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2967-20D3-4613-B5CA-1E49A377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8B10-7CE2-40FD-9B84-237F558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1AC-2140-4A64-B829-4287F824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981E-2260-40BC-A769-C03AFBCC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8C69-2FF0-41EC-9C93-8DE09C6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FF95-5384-45B9-8A5E-0B3B662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735B-D029-4ED3-8B74-DA18A07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22C4-0F2A-4012-81D6-7CD68D4B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C31D-E88D-4675-865D-E93F3403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00EC-6F33-4E4F-8276-CE8A2345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E465-63C4-4943-BC64-571246DD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35394-E913-4841-BF1C-E2AA599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F3E6-8744-4046-8119-6A58EC3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959-D268-42E8-BF48-76F5379D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0779-BC31-400E-8BC8-D319A66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C81A-3E82-49FC-8307-F76DFDA5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D3A1-56CB-4585-A293-20C7CC8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EEC1-7FF0-408B-B2A1-599C3AD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F59C-EA98-4295-AEBC-7065DEDD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E1C87-0054-4E56-8A34-7CE201A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C801-7F40-43BD-910E-5E5F7E3D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C493-662F-4AAA-BF45-BD8C43CD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5907-200F-4B5B-84F9-DD4DD632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79451-5637-4D2E-BA24-7ADFEA3A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7CF-3FB2-4487-93A0-E41D75EA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5A59-6D55-48F8-8825-6CCE54E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EC4CD-B022-41A2-9BC2-EE63E5A2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4A5D-1AF9-4267-8119-81EDFD93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5787-B2C9-4AD2-B78E-AD1F49A6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31B7-266A-4802-B9B9-667F22D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516F-E5D4-447F-A913-7DBFF91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4DE6-6A29-4DDC-8B8A-5446A893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0A683-5962-4B87-86CE-37AF8F9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0E29-3661-46C6-9146-437FB61E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F325-B4B6-458D-98AA-594DFC75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ADE-9F84-40B5-8A35-4125903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84C5-D9D4-430D-B261-9F3F31A1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AC3CA-43D5-46C3-BBE0-10FB7867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3DE7-7644-4EC7-86CE-AB66B85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1E653-DA21-4380-BD0D-E75E696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1876-BBC2-441B-B927-6A708C24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C3C8E-3947-49D5-82EF-C48F20C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FD69-89A1-41AA-BE29-9CFC81C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CB63-D35F-4A48-9A8B-8A8D44F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07B5-8AD5-415B-8F55-93DDBB7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1EF1-222A-431C-9B2D-99C25C6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587-8AF4-4BAF-8219-8058810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6CC9-8A5C-4CFA-A0B0-ACC68703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9326-2CA7-4EC3-B182-9FB9B368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6BD1-17D0-4108-982B-7F6CE9E3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54BF-7744-42B9-AA48-A94AB4E6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596D-CDE9-4FB7-9A92-C02DEC75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16D9-3A29-4595-A182-416C2D3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E24B5-8A05-44D8-86B4-614D7536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A928-00A5-4D9B-B916-BEE5C4D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4CC1E-A88B-423B-8228-4E4B1424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23E7-B68C-4C18-A3E7-4AFB871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F8F-0E8F-4160-B81A-D13DFBF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C2BA2-F436-4722-B039-4E2C65E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22BD-6A39-4048-ABCC-7447077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3F21-406F-44F0-A54D-A48E317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13569-B061-41D3-84CB-3970109B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FF1E-E2CD-4F15-AC96-F5E91502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07BD-F113-4FAE-BDD1-B23F3AC4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DD30-F8A1-41EF-AA99-41E48888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F6BD-06A0-4613-884F-3865952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CCE6-B1BE-43A5-A2D2-D7BF9E20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7F327-4662-4CC6-AB12-E4A93D2F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BE1-F96E-4FED-8329-404B2A9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A6B6A-BDFB-4007-AFB0-2D29CDE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8CA16-4213-4F53-8746-B5CCD9C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876AA-5D7C-4066-A051-3C3781E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6997-B292-4179-ACE6-C32536E5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E767-81D0-4540-9B9B-BCFED8B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D4B60-453C-4920-A028-2EA96898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2616-2B9F-4DB9-AD04-8073CE4C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897FB-3B65-41FD-A9D7-5CEBD23C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0B130-2EDB-4CF6-9071-F96C1C99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B2BC6-D664-473E-85CF-3023425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5676-605D-4ECE-8133-712CA99EB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99D5-D4E3-4FC9-B4EE-686FE1059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A3ED-AD2D-4940-BBF5-29F9B47013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544-64C7-4143-8560-7A0C6DF3CB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35EE-97DE-4AC2-9C72-CBD7608893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1539-15BC-48F6-A3DE-4AB4A1FD2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34E4-5DC5-428A-8AF9-CB3D86F247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DA0-E3F0-48A3-822C-7E5310B21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C145-A5EA-4797-A558-BEF5ABEB84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55B7-5ECF-4378-BA09-E7BDC269F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529-5D9D-4FF5-8629-3AF522683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AC45-24D6-4DE9-8606-A9C31E9CD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A4DA-2A3D-4753-A3FC-036138B2E3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05D5-1F51-4F32-B4CB-697087587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087-CE8C-4F39-8317-B6198E558F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1CF-8C3C-4733-836A-08685CC27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BCEF-A2BE-4892-BB48-53E4E31180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9E7-F0D6-426D-BA21-BD6D8415F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601-149F-41FE-AE02-797178CDE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3EB-89B1-40E4-89CD-B2620E27A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53F5-03CC-4E1A-96DF-FA2EEBF0F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AF3E-CC37-4DC5-8D2D-8919B2FBB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645-A598-49DC-84EB-0A403F863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852-3E20-484C-9B4C-D7F48188A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FDEA-F57C-412A-9070-E645D7C61A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6558-4926-41CD-9329-DD968F393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3424-F73D-4699-9527-4DD4A284A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054F-F902-4975-9893-D4EA36322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DF57-EFCB-445C-9ED0-61BA6A573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A642-3CD5-486B-8515-D17F93B4C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CF1-DB81-4AB6-9A6F-B94E8B3F0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836-139C-4693-89A3-D93ACB057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93D8-E91F-4895-B152-F03252275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6AC-53F4-4044-AD94-AA53800152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799-C068-464D-8764-848EC19DC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1B11-F56F-4527-B35F-6060A8063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2B0-58FC-43CD-A0A2-054275FD3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99E-E111-4AE1-8990-B69E8B307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499C-1A86-44C3-8FB7-45811E7A9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43AD-7CF2-407F-8368-ECF9D4199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76400" y="3014640"/>
            <a:ext cx="69912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5360" y="1195560"/>
            <a:ext cx="8153280" cy="44668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3071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4720" y="1009800"/>
            <a:ext cx="8134560" cy="48384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1071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85640" y="1214280"/>
            <a:ext cx="8172720" cy="442944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357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857160" y="3500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53280" cy="1028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785880" y="2071800"/>
            <a:ext cx="4124160" cy="504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571680" y="2571840"/>
            <a:ext cx="8143560" cy="3809880"/>
          </a:xfrm>
          <a:prstGeom prst="rect">
            <a:avLst/>
          </a:prstGeom>
          <a:ln w="0">
            <a:noFill/>
          </a:ln>
        </p:spPr>
      </p:pic>
      <p:sp>
        <p:nvSpPr>
          <p:cNvPr id="1034" name="矩形 4"/>
          <p:cNvSpPr/>
          <p:nvPr/>
        </p:nvSpPr>
        <p:spPr>
          <a:xfrm>
            <a:off x="2511360" y="1571760"/>
            <a:ext cx="148932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6932520" y="2692440"/>
            <a:ext cx="1489320" cy="290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4786200" y="3751200"/>
            <a:ext cx="1489320" cy="28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"/>
          <p:cNvSpPr/>
          <p:nvPr/>
        </p:nvSpPr>
        <p:spPr>
          <a:xfrm>
            <a:off x="7215120" y="4846680"/>
            <a:ext cx="114300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9"/>
          <p:cNvSpPr/>
          <p:nvPr/>
        </p:nvSpPr>
        <p:spPr>
          <a:xfrm>
            <a:off x="5286240" y="5929200"/>
            <a:ext cx="140040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52520" y="480960"/>
            <a:ext cx="8238960" cy="589608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4786200" y="1143000"/>
            <a:ext cx="192888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5429160" y="2214720"/>
            <a:ext cx="1000080" cy="282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2928960" y="3286080"/>
            <a:ext cx="91764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2571840" y="4357800"/>
            <a:ext cx="278604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3394080" y="5483160"/>
            <a:ext cx="203508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43920" cy="588636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4357800" y="2500200"/>
            <a:ext cx="98892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6929280" y="3571920"/>
            <a:ext cx="148932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1285920" y="4643280"/>
            <a:ext cx="2428920" cy="354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"/>
          <p:cNvSpPr/>
          <p:nvPr/>
        </p:nvSpPr>
        <p:spPr>
          <a:xfrm>
            <a:off x="7358040" y="5786280"/>
            <a:ext cx="107172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480960" y="938160"/>
            <a:ext cx="8182080" cy="49816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1143000" y="1071720"/>
            <a:ext cx="1857240" cy="282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7143840" y="1643040"/>
            <a:ext cx="148896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3286080" y="2714760"/>
            <a:ext cx="148896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"/>
          <p:cNvSpPr/>
          <p:nvPr/>
        </p:nvSpPr>
        <p:spPr>
          <a:xfrm>
            <a:off x="5857920" y="3286080"/>
            <a:ext cx="23572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2071800" y="4357800"/>
            <a:ext cx="107136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1285920" y="4857840"/>
            <a:ext cx="1214280" cy="282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2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